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2825" cy="6858000"/>
  <p:notesSz cx="672465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6D1E-6E73-43C5-85CD-34EF86EB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F2CB-8278-47F3-8B15-8352F0A0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4737-564D-4933-A103-9399829C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1C01-D6D9-47A2-8DD9-938087BB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456A-876D-46EC-8ECC-891492F4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7D25-AB22-4908-8B8B-68E3842D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E54D-E17D-4A9E-9BF7-DB22D6C7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6B63-B2DA-4B46-80C0-09FCCBF9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73AC-85E7-40ED-A22F-D9A688D7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A701-F89E-47BE-BF23-22311AC7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3432-821E-4A93-9A3F-62FE48A1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8E1E-1210-40F0-AA8C-2BAF3EFE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690F-5C44-4ACD-A21C-56CD9538C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733320" y="825480"/>
            <a:ext cx="4391280" cy="1120680"/>
          </a:xfrm>
          <a:prstGeom prst="cube">
            <a:avLst>
              <a:gd name="adj" fmla="val 55634"/>
            </a:avLst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792000"/>
            <a:ext cx="3186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GRESSIVE STAG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F DEVO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25000" y="26924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</a:rPr>
              <a:t>12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21160" y="38131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</a:rPr>
              <a:t>12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15080" y="4933800"/>
            <a:ext cx="63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</a:rPr>
              <a:t>12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44920" y="597852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</a:rPr>
              <a:t>12.11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20400" y="2044800"/>
            <a:ext cx="14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OP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28760" y="501660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77320" y="1828800"/>
            <a:ext cx="291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</a:rPr>
              <a:t>DIR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53280" y="4495680"/>
            <a:ext cx="2923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</a:rPr>
              <a:t>INDIR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353960" y="1946160"/>
            <a:ext cx="4391280" cy="1121040"/>
          </a:xfrm>
          <a:prstGeom prst="cube">
            <a:avLst>
              <a:gd name="adj" fmla="val 55634"/>
            </a:avLst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973160" y="3067200"/>
            <a:ext cx="4392720" cy="1118880"/>
          </a:xfrm>
          <a:prstGeom prst="cube">
            <a:avLst>
              <a:gd name="adj" fmla="val 55634"/>
            </a:avLst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19800" y="2030400"/>
            <a:ext cx="367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Impact"/>
              </a:rPr>
              <a:t>Mind Fixed on Krish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Impact"/>
              </a:rPr>
              <a:t>(Result :  Will live in relationship with Krishna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593800" y="4186080"/>
            <a:ext cx="4391280" cy="1121040"/>
          </a:xfrm>
          <a:prstGeom prst="cube">
            <a:avLst>
              <a:gd name="adj" fmla="val 55634"/>
            </a:avLst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4640" y="3151080"/>
            <a:ext cx="378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Impact"/>
              </a:rPr>
              <a:t>Follow  regulative principles of sadhana-bhakt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Impact"/>
              </a:rPr>
              <a:t>(Result:  Develop desire to attain Krishna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213000" y="5307120"/>
            <a:ext cx="4392720" cy="1120680"/>
          </a:xfrm>
          <a:prstGeom prst="cube">
            <a:avLst>
              <a:gd name="adj" fmla="val 55634"/>
            </a:avLst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21320" y="4253040"/>
            <a:ext cx="419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Impact"/>
              </a:rPr>
              <a:t>Work for Krish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Impact"/>
              </a:rPr>
              <a:t>(Result: Will come to the stage of devotional servic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66720" y="5391000"/>
            <a:ext cx="4115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Impact"/>
              </a:rPr>
              <a:t>Renunciation, cultivation of knowledge, medit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Impact"/>
              </a:rPr>
              <a:t>(Result :  Purification, peace, gradual elevatio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758000" y="4495680"/>
            <a:ext cx="365400" cy="1941480"/>
          </a:xfrm>
          <a:custGeom>
            <a:avLst/>
            <a:gdLst>
              <a:gd name="textAreaLeft" fmla="*/ 0 w 365400"/>
              <a:gd name="textAreaRight" fmla="*/ 131760 w 365400"/>
              <a:gd name="textAreaTop" fmla="*/ 50400 h 1941480"/>
              <a:gd name="textAreaBottom" fmla="*/ 1891080 h 19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21640" y="762120"/>
            <a:ext cx="384120" cy="3733560"/>
          </a:xfrm>
          <a:custGeom>
            <a:avLst/>
            <a:gdLst>
              <a:gd name="textAreaLeft" fmla="*/ 0 w 384120"/>
              <a:gd name="textAreaRight" fmla="*/ 138600 w 384120"/>
              <a:gd name="textAreaTop" fmla="*/ 97200 h 3733560"/>
              <a:gd name="textAreaBottom" fmla="*/ 3636360 h 37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80880"/>
            <a:ext cx="9902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86400" y="-15840"/>
            <a:ext cx="105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hagavad Gi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hapter 12.8-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48480" y="152280"/>
            <a:ext cx="145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yaga Caitanya Das-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9744800">
            <a:off x="1219320" y="3200400"/>
            <a:ext cx="666720" cy="3429000"/>
          </a:xfrm>
          <a:prstGeom prst="upArrow">
            <a:avLst>
              <a:gd name="adj1" fmla="val 50000"/>
              <a:gd name="adj2" fmla="val 1285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4688" dir="6247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30T12:05:26Z</dcterms:created>
  <dc:creator>user</dc:creator>
  <dc:description/>
  <dc:language>en-US</dc:language>
  <cp:lastModifiedBy>Prana dasa</cp:lastModifiedBy>
  <cp:lastPrinted>1998-12-02T17:48:14Z</cp:lastPrinted>
  <dcterms:modified xsi:type="dcterms:W3CDTF">1998-12-02T17:49:09Z</dcterms:modified>
  <cp:revision>15</cp:revision>
  <dc:subject/>
  <dc:title>No Slide Title</dc:title>
</cp:coreProperties>
</file>