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2825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FEE-3D75-460C-837E-B537567F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448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605-F8A6-4D07-B2EF-2D0B4FA6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025-7AF8-459B-AF5E-7B8F5A18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4F8-3E4A-4599-874F-50F5C901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C86-C2C6-4370-8992-1D32110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ED2-5BBC-4971-83CA-728B8D7D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F62-4636-4726-8D59-FE75808D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642-1D21-48C5-BF08-8DE82673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1E8-3861-456B-B0B5-BB4A2CD9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3A2-20CA-4893-874C-73B982E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5DB-5A00-4BDA-A10F-1C2D1E9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477-8019-4FFC-AE42-CBEA91C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340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340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340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664F-6AFE-463A-9D7D-78A6BF4B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029200"/>
            <a:ext cx="5867640" cy="449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981080"/>
            <a:ext cx="5867640" cy="2590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" y="-22320"/>
            <a:ext cx="99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hagavad G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9880" y="7632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yaga Caitanya Das - 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697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1066680"/>
            <a:ext cx="40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Arial Black"/>
              </a:rPr>
              <a:t>UNIVERSAL FORM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09680"/>
            <a:ext cx="5086440" cy="21643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juna requests to see.  Wh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convince others of Krishna’s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not just theoretical or philosophical, but re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et criteria for future incar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g.11.3 pur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334120"/>
            <a:ext cx="47242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s of Universal form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measurable - unlimited 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ulgent - compared to thousands of su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thing in the universe in one pl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ll demig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ll moving and and non-moving be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ee past, present and 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rjuna could see outcome of b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la-rupa (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troyer of all worlds and 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rivers flowing into ocean / moths entering fi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.11.15-3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181480"/>
            <a:ext cx="685800" cy="685800"/>
          </a:xfrm>
          <a:prstGeom prst="sun">
            <a:avLst>
              <a:gd name="adj" fmla="val 2838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1947960"/>
            <a:ext cx="761760" cy="720360"/>
            <a:chOff x="533520" y="1947960"/>
            <a:chExt cx="761760" cy="720360"/>
          </a:xfrm>
        </p:grpSpPr>
        <p:sp>
          <p:nvSpPr>
            <p:cNvPr id="51" name=""/>
            <p:cNvSpPr/>
            <p:nvPr/>
          </p:nvSpPr>
          <p:spPr>
            <a:xfrm>
              <a:off x="533520" y="19479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2177640"/>
              <a:ext cx="457200" cy="456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5960" y="2147760"/>
              <a:ext cx="3808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35560" y="2971800"/>
            <a:ext cx="429120" cy="1251360"/>
          </a:xfrm>
          <a:prstGeom prst="rect">
            <a:avLst/>
          </a:prstGeom>
          <a:noFill/>
          <a:ln w="0">
            <a:noFill/>
          </a:ln>
          <a:effectLst>
            <a:outerShdw dist="28496" dir="123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0" y="5961240"/>
            <a:ext cx="503640" cy="2836080"/>
          </a:xfrm>
          <a:prstGeom prst="rect">
            <a:avLst/>
          </a:prstGeom>
          <a:noFill/>
          <a:ln w="0">
            <a:noFill/>
          </a:ln>
          <a:effectLst>
            <a:outerShdw dist="28496" dir="123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7T17:38:16Z</dcterms:created>
  <dc:creator>user</dc:creator>
  <dc:description/>
  <dc:language>en-US</dc:language>
  <cp:lastModifiedBy>Prana dasa</cp:lastModifiedBy>
  <cp:lastPrinted>1998-11-30T23:24:07Z</cp:lastPrinted>
  <dcterms:modified xsi:type="dcterms:W3CDTF">1998-11-30T23:26:28Z</dcterms:modified>
  <cp:revision>8</cp:revision>
  <dc:subject/>
  <dc:title>No Slide Title</dc:title>
</cp:coreProperties>
</file>